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D30A-3531-4271-90D0-28DAFF8CD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63DD-1E59-4829-8C5E-45779A902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C94B-DA38-4D22-976C-89E05204C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81DC-1FEE-4C40-A727-74B893567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5557-2B32-481A-A3D9-490708223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C3D5-C1C7-4B15-A60B-9DAF80302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3177-7FC6-427B-8122-261E50D2D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E7D7-4054-4A59-976A-7D2942233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9891-F70F-42A0-AC4B-8047016B9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8093-64A2-45AD-810A-9F4A3733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CBC3-A4AD-4B9F-877F-058C08C2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1BE1-E731-4795-8692-65374FD8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ABCB1-6423-42CC-B3B2-175C56788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bloomberg.com/markets/rates-bonds/government-bonds/us/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ROECONOMICS IN ONE 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3123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ING THE ECONOMY- G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ING THE ECONOMY-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CY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CITS/SURPLUSES AND DEB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can and should the government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scal and Monetary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MINAL GD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DP IN CURRENT DOLLARS- NOT ADJUSTED FOR PRICE INDEX (LEVEL)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E IND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urrent Dollar (Nominal GDP) is adjusted by the Price Index.  The Price Index is determined by the extent that inflation or deflation has effected the value of a Dollar ($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year – not too far off-- selected to act as the base year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out any change in the value of the Dollar the Price Index is 1.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10% increase in prices would result in a Price Index of 1.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10% decrease in prices would result in a Price index of .9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justing- The final w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ase year GDP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 YEAR GDP divided by 1.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 (constant dollar GDP)= Nominal (current dollar GD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equent Year GDP is Nominal GDP divided by the New Price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DPYR2/price index yr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 GDP A GOOD MEASUREMENT FOR EVALUATING THE ECONOM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2209320"/>
            <a:ext cx="838188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D DURING THE DEPRESSION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eriod with 40% decrease in G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s recorded 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ransactions are not recor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would they affect G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hould be recor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would it affect G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 GDP A MEASURE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ALITY OF LI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DP IS OFTEN USED AS A MEANS OF MEASURING ONE COUNTRIES OUTPUT OR WELL-BEING TO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SURING THE EC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or Department and Commerce Depart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reau of Economic Statist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DP- Real GDP of 3-4.5% -&gt;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inci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’s the economy hea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te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ion perm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hours work in w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mer sent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incid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tatitistics can help us understand what the economy is doing at this mo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using St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mployment rate- payroll fig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PI (producer Price Ind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#s should tell us how bad the economy w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lation – Consumer Price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e rate charged by ba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ation of unemplo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dit to income rat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siness Cy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8088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ansion- Peak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 aspect—GROWTH-Bigger pie to share, possible Budget Surplu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k of inf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ssion- Tr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?-Not many, causes businesses to streamline-&gt;become more effi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interest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-&gt;loads-&gt;Unemployment, lower incomes, social ills- BIG DEFIC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per R. Reagan- the Difference btw Recession and Depress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my neighbor loses his/her job-&gt;Rec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I lose my job-&gt;De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SS DOMESTIC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MENT OF THE TOTAL OUTPUT OF THE ECONOMY IN A GIVEN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VALUE approx $18Trillion (nomi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dget surplus/defic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es to Government Spending and Reve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enue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level- Primarily income 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times, revenue up, bad times s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essive Ta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gnifies good and bad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9 as a % of economy, lowest on record-&gt;14.8% of economy-&gt; appr $1.5 Trillion defic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9-2000 good times brought in high tax revenue-&gt; SURPLU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vernment purchases and expendi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sion-go down? May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ssion- sky rocketSSS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OUNTERCYCLICAL POLICY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Keynesian economics- jump start the economy through government spe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timulus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UTOMATIC STABILIZERS---UNEMPLOYMENT INSURANCE, WELFARE, FOOD STA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ast year Government expenditures 25% of economy—60 year recor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cits/Debt and Surp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alculate Government Spending less Government Reve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Positive—Surplus (rare), some say bad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Negative- Deficit (common) some say good, unless unwieldly or if it “crowds out inves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t—if you regularly run deficits you’ll create Debt (debt is accumulated defic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 Deficit/Deb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0492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 Reces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 expenditures HU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 revenue- Historically incredibly low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—HUGE DEFICITs -10%+ OF ECONOMY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5 trillion dollars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parties contribute to Deficit—Dems—spending side, Reps-revenue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bt- approx. $18Trillion –is that big? Deficits since 1960s except under Clin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14 deficit- $483 billion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97 bill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low deficit recorded in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bt/Deficits and servi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ing off debt-&gt; servicing the deb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vernment bonds!- different matu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ngth of maturity and interest rate positively correl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ds price determines its interest rate- y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1000 bond 2yrs- (value at the end of the term)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bloomberg.com/markets/rates-bonds/government-bonds/u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should government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bertarians-NADA- Laissez-Faire—have faith it’ll all work out, don’t screw up the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-Correcting? Say’s Law?-1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one else---something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SCAL POLICY- TAX AND SPEND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ETARY POLICY- MONEY 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SCAL POLI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0492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ive Branch and Legislative Bra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ident Proposes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ress passes bills—create 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x and Spend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entive---pass bills that reduce taxes and spend mo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ve Bra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ice Management Budget-(OM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cil of Economic Advi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asury, Commerce, Labor et. 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gressional Budget OfficeC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ys and Means Committee, Budget et. 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e, Commerce et. 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etary Poli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8088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ey, Money, and Mo Money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’s in Char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EDERAL RESER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D 1913- STABILIZE THE GROWTH OF THE MONEY SUPPLY, OVERSEE AND REGULATE THE BANKING 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d Reserve Chairman- appointed by President- 4 year term- TODAY BEN BERNAN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good Federal Reserve- Is INDEPENDENT OF THE POLITICAL PROCES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ting the Thermost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 hot-uh oh! Inflation?--slow down the economy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 interest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 cold-uh oh! Unemployment?----heat up the economy-&gt; lower interest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lation/Def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lation-&gt;value of a $ declines, takes more $$$ to buy the same set of goods/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lation-&gt;value $ in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lation helps people who borrow at fixed rates, hurts people who lend and people on a fixed income (deflation is opposi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 inflation-current 2-3%, post WW2 high was appr. 12% in the late 197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inflation- 100s of % incr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suring Inflation/Defla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state? Understa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DP -&gt; PRICE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umer inflation- CPI—basket of g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r Price Inflation- PPI (cost of resources for Produc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incorporate a base year as a unit of measur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 lie with the “basket” of goods– improvements-and bells and whistles often aren’t fully inclu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UMPUTION + INVESTMENT + GOVERNMENT SPENDING + (EXPORTS-IMPOR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ployment/Unemploy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or Force -&gt;population employed or actively looking for work (16-6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or Participation Rate-&gt; Labor Force divided by Total # of people 16-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employed- actively looking for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 in measurement, underemployment, part-time employment, underground economy, those who gave up loo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Unemploy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al- Changes in what society produces, how it produces it, where it produc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, auto worker unemployed in Mi. but position for high tech Google unfilled in C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clical- Consistent with the business cycle- good times low-bad times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ctional- EG Those who left their jobs voluntarily but don’t’ yet have another j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always count on rough 3 to 4% unemplo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1476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employment Rate et. 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yclical Unemployment tied to Phillips Curve— Inflation and Unemployment inversely relat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urrent Unemployment Rate 6.7%, peak post War- early 1980s 10%.  Depression?- 25%, Great Recession –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oblem today- Long Term Unemployed—social ill-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ow to get back in the Labor For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tagflation—late 70s</a:t>
            </a:r>
            <a:r>
              <a:rPr b="0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high inflation, high unemployment and slow growth (pushed out Phillips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DP must grow by 2% to keep unemployment from r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itlement programs will be a big problem in 10+ years may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w economy will exacerbate deficit/debt problems—Keynes might say—so w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ffer Curve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w taxes-&gt; more govt revenue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t true at current tax levels, though taxes do cause people to change their behavior and does increase underground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5-70% OF GD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ED” (ON THE BOOKS) SALE OF AL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N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OODS AND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NCLUDE ILLEGAL TRANS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ALE OF G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VALUE JUD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S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-1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INVES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STOCK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PLANTS, MACHINER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MS USED TO PRODUCE A GOOD OR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ORY IS INCLU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VERNMENT SPE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-15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GOVERNMENT SPENDING, BUT NOT TRANSFER PAY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05080" indent="-19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DERAL (WASHINGTON D.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05080" indent="-19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(HARTFOR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05080" indent="-19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(DARI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05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05080" indent="-1940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OOD TIMES GOVERNMENT SPENDING LOWER THAN IN BAD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ORTS &amp; IMPO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 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S AND SERVICE SOLD ABROAD (EXPO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S AND SERVICE FROM ABROAD PURCHASED IN THE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ternative way to measure GD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e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money earned in a given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ntal 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nditure GDP (C+I+G +(X-M))=Income GDP (see abo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L GD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DP ADJUSTED TO REFLECT INFLATION OR DEF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OMPARE APPLES TO AP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CALLED “CONSTANT” DOLLAR GD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11:28:55Z</dcterms:created>
  <dc:creator>Darien Public Schools</dc:creator>
  <dc:description/>
  <dc:language>en-US</dc:language>
  <cp:lastModifiedBy>Administrator</cp:lastModifiedBy>
  <dcterms:modified xsi:type="dcterms:W3CDTF">2015-04-08T17:36:15Z</dcterms:modified>
  <cp:revision>26</cp:revision>
  <dc:subject/>
  <dc:title>gdp</dc:title>
</cp:coreProperties>
</file>